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157-EFD3-4F02-8517-958A8062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F1D-AA87-418E-BAA9-26CD2CCD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46A-7FA3-480B-A864-CAF7162C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4C6-46F0-45B4-8223-C3BA784C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BFB-F627-461A-AB37-DB2F9CD2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E4F-2EB6-41FA-A074-D73C9E2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807-75FA-4706-A428-33206465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3B6-5F48-4640-B1DA-50DC13B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AA6-880C-4B6C-B3A3-AF791B6F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62A-4445-4384-AF94-218B193A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3E6-5C68-4E8F-90F1-CF28AAC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122-1BED-4AB3-917E-6FE3B2E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9A8-77A1-4392-959C-6A0BD20A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844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844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844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4920" y="2844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83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16360" y="50785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7280" y="50785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93080" y="50720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‘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3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04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51640" y="630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72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421000"/>
            <a:ext cx="1726920" cy="576360"/>
          </a:xfrm>
          <a:prstGeom prst="wedgeEllipseCallout">
            <a:avLst>
              <a:gd name="adj1" fmla="val -2023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31,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Linder Robert</cp:lastModifiedBy>
  <dcterms:modified xsi:type="dcterms:W3CDTF">2004-12-10T10:24:01Z</dcterms:modified>
  <cp:revision>2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linder.robert@siemens.com</vt:lpwstr>
  </property>
  <property fmtid="{D5CDD505-2E9C-101B-9397-08002B2CF9AE}" pid="3" name="_AuthorEmailDisplayName">
    <vt:lpwstr>Linder Robert Com MD PD OS</vt:lpwstr>
  </property>
  <property fmtid="{D5CDD505-2E9C-101B-9397-08002B2CF9AE}" pid="4" name="_EmailEntryID">
    <vt:lpwstr>00000000BDCAF715C440B448BEAB1A6249C7E26907002C596574BA874846A35C843BA87906D70000000FB94B00002C596574BA874846A35C843BA87906D7000001E228A4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363686D69747A4A00</vt:lpwstr>
  </property>
  <property fmtid="{D5CDD505-2E9C-101B-9397-08002B2CF9AE}" pid="6" name="_EmailSubject">
    <vt:lpwstr>Please review 'Budget_Übersicht'</vt:lpwstr>
  </property>
  <property fmtid="{D5CDD505-2E9C-101B-9397-08002B2CF9AE}" pid="7" name="_ReviewCycleID">
    <vt:r8>-804364823</vt:r8>
  </property>
</Properties>
</file>